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7B4-8321-4576-8DCA-ED00A81F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8DF-4E46-43D9-A1C0-D05C6E1A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757-6681-4A31-8C0E-3A8F83FF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18B-CB05-4C85-B205-2B0485A7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ED77-7053-4272-9AB5-E1213D68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FB09-B12A-48A2-B78A-5F2C0ECF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6111-CC14-4A7C-8B23-DBC66AA0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68AC-4BCB-48B4-B728-2376F9A0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8CC1-9678-4957-9401-08FFA288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B003-F6BE-4F8F-8072-B05A766B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F808-8AF2-4293-AD58-5824B7F9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C32-5467-4342-8ED5-29575F73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A30B-085A-4755-BE82-4918168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63AD-289B-412F-BCA7-14103D69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87EB-FABE-442A-9198-CDCF6246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EA6A-7D00-4E62-888B-B0F9888F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A205-8C4A-410C-AD26-49823DFD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28D-C611-440A-B70F-5506BA28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2E4-79E0-407C-B7B8-8D2806D0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31C-C5EF-4FFF-AC65-36E7F6BA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EF7-6FAD-496E-BC25-D8546DFA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80D-39CB-4529-BD5F-95BF118F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C1D-2BEF-4171-A60D-47D155E2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107-C112-41CF-A305-3E3C0BDE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1DC2-C7AE-45BD-B7F9-ABC19292913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8629-6031-4968-B2B1-23F6568F5B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-6480" y="566640"/>
            <a:ext cx="9156960" cy="5919840"/>
            <a:chOff x="-6480" y="566640"/>
            <a:chExt cx="9156960" cy="591984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7" descr="EMRM-042"/>
          <p:cNvPicPr/>
          <p:nvPr/>
        </p:nvPicPr>
        <p:blipFill>
          <a:blip r:embed="rId4"/>
          <a:stretch/>
        </p:blipFill>
        <p:spPr>
          <a:xfrm>
            <a:off x="7162920" y="5835600"/>
            <a:ext cx="198108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Line 9"/>
          <p:cNvSpPr/>
          <p:nvPr/>
        </p:nvSpPr>
        <p:spPr>
          <a:xfrm>
            <a:off x="2209680" y="6324480"/>
            <a:ext cx="495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LogoE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5927760"/>
            <a:ext cx="2209680" cy="85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DE95-2963-4C2F-9909-1EDE3104F3E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5FBE-7998-479B-AC31-53A2DE049E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304920" y="114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pacity Building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 with Special Application to Non-Communicable Diseas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419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– EM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iro, Egypt, 16-18 December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shop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the Workshop is to build national research capacities in the area of Economic Evaluation of health progra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the end of the workshop, you will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fundament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Evaluation results to aid priorit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14400"/>
          <a:ext cx="9144000" cy="6188040"/>
        </p:xfrm>
        <a:graphic>
          <a:graphicData uri="http://schemas.openxmlformats.org/drawingml/2006/table">
            <a:tbl>
              <a:tblPr/>
              <a:tblGrid>
                <a:gridCol w="1392120"/>
                <a:gridCol w="3484800"/>
                <a:gridCol w="2133360"/>
                <a:gridCol w="93960"/>
                <a:gridCol w="2039760"/>
              </a:tblGrid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:30-10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eral introduction to Health Economic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B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:30-11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:00-1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roduction to Economic Eval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E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B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:00-14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:00-15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lenary Discuss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amp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o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:30-16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:00-17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on 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U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7"/>
          <p:cNvSpPr/>
          <p:nvPr/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matariaa</cp:lastModifiedBy>
  <dcterms:modified xsi:type="dcterms:W3CDTF">2012-12-16T05:57:58Z</dcterms:modified>
  <cp:revision>535</cp:revision>
  <dc:subject/>
  <dc:title>Slide 1</dc:title>
</cp:coreProperties>
</file>